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8DD-1C98-4331-A58E-4C5C950E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5BE-1CA6-4561-8C7D-CE754112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411-CDD4-4FEC-A945-80E88664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C5B-EEAE-44A9-9B41-844C7463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50D-1645-4281-BC43-878FF3B9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798-3E47-42EA-B0FD-8C73D57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9C9-7295-4242-9445-2AFAA8C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0155-B7CF-4523-B13E-3D16FFA8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75F-15D0-4441-B03C-4B2569A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A3C-6152-481F-AFBD-E7F5EC4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414-4B46-47BF-8352-9D80E6B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168-6542-404F-937F-6AA01B3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4FCF-BB16-4877-9454-A61BEB2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62A0-EE6B-4C7D-8969-73AABA72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CFC2-A1E2-4F0E-AEFE-3B5DFC62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194F-1D1D-4C76-B599-6F1B7512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C01-4F23-44C0-80EA-C5A23E1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2A1-F6ED-46CF-8B3E-9E1C1C5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F8F-AD92-4B7E-9E77-4FBEAE2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CCA-0271-4893-8124-763ADBAD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72C-16DC-400A-9161-0D7CE0D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908-6227-4013-AA6E-007B4CA1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4AF-E078-4539-B60A-1EBC6AC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E2C-EBD0-4534-BAAF-3E22762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A72-D953-4E9A-9E46-FBF87D1967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AFDB-90A7-48D0-B340-E55AE22F522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lish-Fresh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ocabulary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ady or The Tig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illy Sunday use to preach, Alcohol is an appalling source of misery and crime in the land. His efforts helped bring about legel prohibition in the 20’s and early 30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sque:worship::________: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ing:Bell::honk:________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e 2 paragraphs about a tough decision you had to mak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 prepared to share </a:t>
            </a:r>
            <a:r>
              <a:rPr b="0" lang="en-US" sz="3200" spc="-1" strike="noStrike">
                <a:solidFill>
                  <a:srgbClr val="29292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4:25:12Z</dcterms:created>
  <dc:creator>VMS</dc:creator>
  <dc:description/>
  <dc:language>en-US</dc:language>
  <cp:lastModifiedBy>Angie McCall</cp:lastModifiedBy>
  <dcterms:modified xsi:type="dcterms:W3CDTF">2011-09-06T20:36:18Z</dcterms:modified>
  <cp:revision>2</cp:revision>
  <dc:subject/>
  <dc:title>Sept. 3</dc:title>
</cp:coreProperties>
</file>